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B141-30A0-42E7-A365-9D713B431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D789-A775-4B0A-91C1-A4A34AB14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E98F-4C8C-4077-B2C3-D090A85B8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8A2E-4BE3-4A59-87DF-95D226975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2F5B-31CA-4FF7-9A0E-9614DE219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32FF-6B44-4132-940B-C0D20E262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D799-79EB-4FD8-963B-A785F758C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8198-1296-4DCA-B7AF-505C4BDCB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1E0A-C8FA-4B94-8312-B50D54FFC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C65F-D75A-46B4-A591-3D27F67DB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6925-2DE4-494D-88EC-90E96404B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917F-D3D3-45B4-BCA7-F5D1930FA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92EE-2661-430C-ACC9-F36C761DE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1D76-8D8B-414C-833E-F06752B79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A9B8-2B4C-4BCD-A880-987BF9928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7ED0-62E2-428E-B2A8-3DAC83B2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497A-96AF-46E7-9AD4-344DAEC90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4113-9934-472F-8475-89C1853D3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D4FA-FDE5-4B11-A1CB-95C01998F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F7F8-9B1B-4CDD-8EDA-A2F315D51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B386-B319-4585-A6A8-1AA1F8D94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3D43-507A-4352-A1B4-85449D35F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2412-6181-4730-B60E-AB82D3C7B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C3D5-D960-4A4E-AC43-09C80A4F5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C44E-98D5-40FB-AB58-2AC07F697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7D6C-D61C-46CA-A5C3-D63E9C605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A117A-BB0C-47F7-8069-CA9F59406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2B96-EE84-44A7-908C-79A096F2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8140-3326-4248-BD97-CD2DD04F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63BA3-3B7C-4600-9215-7098F611F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59A2-865D-4480-84E0-ED108549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192E-DFEC-4B12-8049-8C968B82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AB5A1-ED0C-471D-9620-890B04F1D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A0F2-A8BD-4817-AB14-A321E390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124E-CDD9-4917-B44F-04037326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D3A7-6070-4580-AC9A-7F9D9CD8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3A09-C585-4F91-9702-A8A91A3E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BEC6-6F1D-4131-B0AB-BB84FE6F5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4D70-01E5-46FF-A71A-5D5787C0B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0T18:51:02Z</dcterms:modified>
  <cp:revision>11</cp:revision>
  <dc:subject/>
  <dc:title>Hunters and gatherers</dc:title>
</cp:coreProperties>
</file>